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02D8F-1F00-4A13-9878-75338F75D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5A5AC-5868-48D0-8733-4D733E875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309F3-F3F0-4D9B-B461-6B3FA5E10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41859-0C70-47D1-B9B3-6D19D7CA7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75087-73CF-4D97-BAC2-7896EDD15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04DF2-80B4-40A1-BAAF-1CA635175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66F8C-9DEF-489B-BE8F-A1AE26C50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C56D-CBA3-4DBE-ADCE-5268E91D9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E25E1-A14A-4E2A-8E8D-ABB084D4B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73F2-E88F-4482-8A3F-1AFAD6EF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EE84E-C362-49FE-AC80-7824C15CA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81B14-A449-4A04-BB2D-D5F0696A8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A278-4499-4453-9EDF-1EDFE5AFA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dros@pomorskie.eu" TargetMode="External"/><Relationship Id="rId3" Type="http://schemas.openxmlformats.org/officeDocument/2006/relationships/hyperlink" Target="mailto:t.styn@pomorskie.eu" TargetMode="Externa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68360" y="2009880"/>
            <a:ext cx="799128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pozycje podziału województwa pomorskiego na regiony gospodarki odpadami komunalnym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Arial"/>
              </a:rPr>
              <a:t>Tadeusz Sty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Gdańsk, dnia 26 sierpnia 2011 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60" name=""/>
          <p:cNvGraphicFramePr/>
          <p:nvPr/>
        </p:nvGraphicFramePr>
        <p:xfrm>
          <a:off x="457200" y="1600200"/>
          <a:ext cx="8229240" cy="4525560"/>
        </p:xfrm>
        <a:graphic>
          <a:graphicData uri="http://schemas.openxmlformats.org/drawingml/2006/table">
            <a:tbl>
              <a:tblPr/>
              <a:tblGrid>
                <a:gridCol w="1347840"/>
                <a:gridCol w="522360"/>
                <a:gridCol w="2102040"/>
                <a:gridCol w="2620080"/>
                <a:gridCol w="1636920"/>
              </a:tblGrid>
              <a:tr h="537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ZZ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32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ilwa Mał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widzyn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29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widzyn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7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70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abut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15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rdej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2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7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yje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37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8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dlink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2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76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ztum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10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8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zierzgoń</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10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4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kołajki Pomorski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ry Dzierzgoń</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5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ry Tar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8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2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65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36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62" name=""/>
          <p:cNvGraphicFramePr/>
          <p:nvPr/>
        </p:nvGraphicFramePr>
        <p:xfrm>
          <a:off x="457200" y="1600200"/>
          <a:ext cx="8229600" cy="4970520"/>
        </p:xfrm>
        <a:graphic>
          <a:graphicData uri="http://schemas.openxmlformats.org/drawingml/2006/table">
            <a:tbl>
              <a:tblPr/>
              <a:tblGrid>
                <a:gridCol w="1192320"/>
                <a:gridCol w="512640"/>
                <a:gridCol w="2340000"/>
                <a:gridCol w="2575080"/>
                <a:gridCol w="1609560"/>
              </a:tblGrid>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ZZ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y L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obowo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6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zarna Wo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ubicho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0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9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ali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0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2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iecz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29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ie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6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karszew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9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4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kórcz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kórcz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ętowo Granicz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60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2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rogard Gdański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818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rogard Gdański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6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8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Zble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wa Karcz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3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9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ra Kiszew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2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6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ars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9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nie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00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8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zers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0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9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3310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91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64" name=""/>
          <p:cNvGraphicFramePr/>
          <p:nvPr/>
        </p:nvGraphicFramePr>
        <p:xfrm>
          <a:off x="457200" y="1600200"/>
          <a:ext cx="8229240" cy="4525560"/>
        </p:xfrm>
        <a:graphic>
          <a:graphicData uri="http://schemas.openxmlformats.org/drawingml/2006/table">
            <a:tbl>
              <a:tblPr/>
              <a:tblGrid>
                <a:gridCol w="2219040"/>
                <a:gridCol w="365760"/>
                <a:gridCol w="1845000"/>
                <a:gridCol w="2337840"/>
                <a:gridCol w="1461600"/>
              </a:tblGrid>
              <a:tr h="828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ZZ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wy Dwór k/Angowi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ojnice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0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70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ojnice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8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2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zar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48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2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złuchów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7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8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złuchów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1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58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brzn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40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4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zechle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39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7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czała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3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zeczenic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4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54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38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66" name=""/>
          <p:cNvGraphicFramePr/>
          <p:nvPr/>
        </p:nvGraphicFramePr>
        <p:xfrm>
          <a:off x="457200" y="2349360"/>
          <a:ext cx="8229600" cy="1971720"/>
        </p:xfrm>
        <a:graphic>
          <a:graphicData uri="http://schemas.openxmlformats.org/drawingml/2006/table">
            <a:tbl>
              <a:tblPr/>
              <a:tblGrid>
                <a:gridCol w="971640"/>
                <a:gridCol w="439560"/>
                <a:gridCol w="2228760"/>
                <a:gridCol w="2824200"/>
                <a:gridCol w="1765440"/>
              </a:tblGrid>
              <a:tr h="682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kładowisko w Gostomiu</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ścierzyna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1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ścierzyna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98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26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ężyc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0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3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86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675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67" name=""/>
          <p:cNvSpPr/>
          <p:nvPr/>
        </p:nvSpPr>
        <p:spPr>
          <a:xfrm>
            <a:off x="395280" y="1413000"/>
            <a:ext cx="835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miny, które nie są przypisane do żadnego ZZO i obsługiwane są przez składowisko w Gostomi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067280" y="274320"/>
            <a:ext cx="4619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zycje podziału na regiony do PGOWP 2016</a:t>
            </a:r>
            <a:endParaRPr b="0" lang="en-US" sz="2400" spc="-1" strike="noStrike">
              <a:solidFill>
                <a:srgbClr val="000000"/>
              </a:solidFill>
              <a:latin typeface="Arial"/>
            </a:endParaRPr>
          </a:p>
        </p:txBody>
      </p:sp>
      <p:sp>
        <p:nvSpPr>
          <p:cNvPr id="6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Z uwagi na fakt, iż część (4 z 9) ujętych w Planie Gospodarki Odpadami dla Województwa Pomorskiego 2010 (PGOWP 2010) tzw. „obszary obsługi ZZO” spełniają wymogów określonych dla regionów gospodarki odpadami komunalnymi w zakresie liczby mieszkańców zamieszkujących obszar regionu (</a:t>
            </a:r>
            <a:r>
              <a:rPr b="1" lang="pl-PL" sz="1800" spc="-1" strike="noStrike">
                <a:solidFill>
                  <a:srgbClr val="000000"/>
                </a:solidFill>
                <a:latin typeface="Arial"/>
                <a:ea typeface="Arial"/>
              </a:rPr>
              <a:t>≥ 150000 Mk</a:t>
            </a:r>
            <a:r>
              <a:rPr b="0" lang="pl-PL" sz="1800" spc="-1" strike="noStrike">
                <a:solidFill>
                  <a:srgbClr val="000000"/>
                </a:solidFill>
                <a:latin typeface="Arial"/>
                <a:ea typeface="Arial"/>
              </a:rPr>
              <a:t>) oraz nie ujęcie trzech gmin województwa w żadnym z ww. obszarów obsługi ZZO, konieczne jest dokonanie nowego podział województwa pomorskiego na regiony.</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W związku z powyższym przygotowano IV warianty podziału województwa pomorskiego na regiony gospodarki odpadami komunalnymi, spełniające wymogi nowych regulacji prawnych:</a:t>
            </a:r>
            <a:endParaRPr b="0" lang="en-US" sz="1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	</a:t>
            </a:r>
            <a:r>
              <a:rPr b="1" lang="pl-PL" sz="2000" spc="-1" strike="noStrike">
                <a:solidFill>
                  <a:srgbClr val="000000"/>
                </a:solidFill>
                <a:latin typeface="Arial"/>
                <a:ea typeface="Arial"/>
              </a:rPr>
              <a:t>a) wariant I (w 5 wersjach: I, Ia, Ib, Ic, Id) – 6 regionów liczących od około 200 tys. do około 600 tys. Mk.;</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	</a:t>
            </a:r>
            <a:r>
              <a:rPr b="1" lang="pl-PL" sz="2000" spc="-1" strike="noStrike">
                <a:solidFill>
                  <a:srgbClr val="000000"/>
                </a:solidFill>
                <a:latin typeface="Arial"/>
                <a:ea typeface="Arial"/>
              </a:rPr>
              <a:t>b) wariant II – 9 regionów ze zmienionymi granicami w porównaniu do „obszarów obsługi ZZO” wymienionych w PGOWP 2010 – liczących minimum 150 tys. Mk;</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	</a:t>
            </a:r>
            <a:r>
              <a:rPr b="1" lang="pl-PL" sz="2000" spc="-1" strike="noStrike">
                <a:solidFill>
                  <a:srgbClr val="000000"/>
                </a:solidFill>
                <a:latin typeface="Arial"/>
                <a:ea typeface="Arial"/>
              </a:rPr>
              <a:t>c) wariant III – jeden duży region „pomorski”  - liczący około 2 240 tys. Mk.;</a:t>
            </a: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	</a:t>
            </a:r>
            <a:r>
              <a:rPr b="1" lang="pl-PL" sz="1800" spc="-1" strike="noStrike">
                <a:solidFill>
                  <a:srgbClr val="000000"/>
                </a:solidFill>
                <a:latin typeface="Arial"/>
                <a:ea typeface="Arial"/>
              </a:rPr>
              <a:t>d) wariant IV (w 2 wersjach: IV i IVa) – 5 regionów liczących co najmniej po 300 tys. M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a:t>
            </a:r>
            <a:endParaRPr b="0" lang="en-US" sz="2400" spc="-1" strike="noStrike">
              <a:solidFill>
                <a:srgbClr val="000000"/>
              </a:solidFill>
              <a:latin typeface="Arial"/>
            </a:endParaRPr>
          </a:p>
        </p:txBody>
      </p:sp>
      <p:pic>
        <p:nvPicPr>
          <p:cNvPr id="72" name="" descr=""/>
          <p:cNvPicPr/>
          <p:nvPr/>
        </p:nvPicPr>
        <p:blipFill>
          <a:blip r:embed="rId2"/>
          <a:stretch/>
        </p:blipFill>
        <p:spPr>
          <a:xfrm>
            <a:off x="1116000" y="1052640"/>
            <a:ext cx="6891480" cy="5457600"/>
          </a:xfrm>
          <a:prstGeom prst="rect">
            <a:avLst/>
          </a:prstGeom>
          <a:ln w="0">
            <a:noFill/>
          </a:ln>
        </p:spPr>
      </p:pic>
    </p:spTree>
  </p:cSld>
  <p:transition>
    <p:comb dir="horz"/>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70">
                                            <p:txEl>
                                              <p:pRg st="0" end="0"/>
                                            </p:txEl>
                                          </p:spTgt>
                                        </p:tgtEl>
                                        <p:attrNameLst>
                                          <p:attrName>style.visibility</p:attrName>
                                        </p:attrNameLst>
                                      </p:cBhvr>
                                      <p:to>
                                        <p:strVal val="visible"/>
                                      </p:to>
                                    </p:set>
                                    <p:animEffect filter="fade" transition="in">
                                      <p:cBhvr additive="repl">
                                        <p:cTn id="32" dur="1000"/>
                                        <p:tgtEl>
                                          <p:spTgt spid="70">
                                            <p:txEl>
                                              <p:pRg st="0" end="0"/>
                                            </p:txEl>
                                          </p:spTgt>
                                        </p:tgtEl>
                                      </p:cBhvr>
                                    </p:animEffect>
                                    <p:anim calcmode="lin" valueType="num">
                                      <p:cBhvr additive="repl">
                                        <p:cTn id="3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43280" y="274320"/>
            <a:ext cx="4043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a:t>
            </a:r>
            <a:endParaRPr b="0" lang="en-US" sz="2400" spc="-1" strike="noStrike">
              <a:solidFill>
                <a:srgbClr val="000000"/>
              </a:solidFill>
              <a:latin typeface="Arial"/>
            </a:endParaRPr>
          </a:p>
        </p:txBody>
      </p:sp>
      <p:sp>
        <p:nvSpPr>
          <p:cNvPr id="7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Bierkowo + ZZO Czarnówko): Damnica, Dębnica Kaszubska, Główczyce, Kępice, Kobylnica, Słupsk (M), Słupsk (W), Smołdzino, Ustka (M), Ustka (W), Trzebielino, Lębork, Łeba, Cewice, Nowa Wieś Lęborska, Wicko, Choczewo, Łęczyce, Linia, Krokowa, Gniewino, Potęgowo – </a:t>
            </a:r>
            <a:r>
              <a:rPr b="1" lang="en-US" sz="1400" spc="-1" strike="noStrike">
                <a:solidFill>
                  <a:srgbClr val="000000"/>
                </a:solidFill>
                <a:latin typeface="Arial"/>
              </a:rPr>
              <a:t>22 gminy, 298856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Eko Dolina): Gdynia, Sopot, Rumia, Reda, Wejherowo (M), Wejherowo (W), Kosakowo, Szemud, Hel, Władysławowo, Jastarnia, Puck (M), Puck (W), Luzino – </a:t>
            </a:r>
            <a:r>
              <a:rPr b="1" lang="en-US" sz="1400" spc="-1" strike="noStrike">
                <a:solidFill>
                  <a:srgbClr val="000000"/>
                </a:solidFill>
                <a:latin typeface="Arial"/>
              </a:rPr>
              <a:t>14 gmin, 5181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ierzno + ZZO Nowy Dwór k/Angowic): Borzytuchom, Bytów, Kołczygłowy, Lipnica, Parchowo, Studzienice, Tuchomie, Dziemiany, Lipusz, Miastko, Czarna Dąbrówka, Chmielno, Sierakowice, Sulęczyno, Chojnice (M), Chojnice (W), Czarne, Człuchów (M), Człuchów (W), Debrzno, Przechlewo, Konarzyny, Brusy, Koczała, Rzeczenica – </a:t>
            </a:r>
            <a:r>
              <a:rPr b="1" lang="en-US" sz="1400" spc="-1" strike="noStrike">
                <a:solidFill>
                  <a:srgbClr val="000000"/>
                </a:solidFill>
                <a:latin typeface="Arial"/>
              </a:rPr>
              <a:t>25 gmin; 23936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zadółki): Gdańsk, Pruszcz Gdański (M), Pruszcz Gdański (W); Żukowo, Kolbudy, Somonino, Kartuzy, Przodkowo, Przywidz – </a:t>
            </a:r>
            <a:r>
              <a:rPr b="1" lang="en-US" sz="1400" spc="-1" strike="noStrike">
                <a:solidFill>
                  <a:srgbClr val="000000"/>
                </a:solidFill>
                <a:latin typeface="Arial"/>
              </a:rPr>
              <a:t>9 gmin, 6028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Rokitki + ZZO Gilwa Mała): Tczew (M), Tczew (W), Subkowy, Cedry Wielkie, Pszczółki, Suchy Dąb, Trąbki Wielkie, Krynica Morska, Sztutowo, Stegna, Nowy Dwór Gdański, Ostaszewo, Miłoradz, Dzierzgoń, Mikołajki Pomorskie, Stary Dzierzgoń, Malbork (M), Malbork (W), Nowy Staw, Lichnowy, Stare Pole, Pelplin, Morzeszczyn, Gniew, Stary Targ, Kwidzyn (M), Kwidzyn (W), Prabuty, Gardeja, Ryjewo, Sadlinki, Sztum – </a:t>
            </a:r>
            <a:r>
              <a:rPr b="1" lang="en-US" sz="1400" spc="-1" strike="noStrike">
                <a:solidFill>
                  <a:srgbClr val="000000"/>
                </a:solidFill>
                <a:latin typeface="Arial"/>
              </a:rPr>
              <a:t>32 gminy, 365079 Mk</a:t>
            </a:r>
            <a:r>
              <a:rPr b="0" lang="en-US" sz="1400" spc="-1" strike="noStrike">
                <a:solidFill>
                  <a:srgbClr val="000000"/>
                </a:solidFill>
                <a:latin typeface="Arial"/>
              </a:rPr>
              <a:t> </a:t>
            </a:r>
            <a:r>
              <a:rPr b="0" lang="en-US" sz="1400" spc="-1" strike="noStrike">
                <a:solidFill>
                  <a:srgbClr val="ff6600"/>
                </a:solidFill>
                <a:latin typeface="Arial"/>
              </a:rPr>
              <a:t>/ewentualnie + Susz (woj. warmińsko-mazurskie – 12814 Mk) = 377893 Mk/;</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tary Las): Bobowo, Czarna Woda, Lubichowo, Kaliska, Osieczna, Osiek, Skarszewy, Skórcz (M), Skórcz (W), Smętowo Graniczne, Starogard Gdański (M), Starogard Gdański (W), Zblewo, Nowa Karczma, Stara Kiszewa, Karsin, Liniewo, Czersk, Kościerzyna (M), Kościerzyna (W), Stężyca – </a:t>
            </a:r>
            <a:r>
              <a:rPr b="1" lang="en-US" sz="1400" spc="-1" strike="noStrike">
                <a:solidFill>
                  <a:srgbClr val="000000"/>
                </a:solidFill>
                <a:latin typeface="Arial"/>
              </a:rPr>
              <a:t>21 gmin, 215884 Mk</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6"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Wariant Ia</a:t>
            </a:r>
            <a:endParaRPr b="0" lang="en-US" sz="2400" spc="-1" strike="noStrike">
              <a:solidFill>
                <a:srgbClr val="000000"/>
              </a:solidFill>
              <a:latin typeface="Arial"/>
            </a:endParaRPr>
          </a:p>
        </p:txBody>
      </p:sp>
      <p:pic>
        <p:nvPicPr>
          <p:cNvPr id="77" name="" descr=""/>
          <p:cNvPicPr/>
          <p:nvPr/>
        </p:nvPicPr>
        <p:blipFill>
          <a:blip r:embed="rId2"/>
          <a:stretch/>
        </p:blipFill>
        <p:spPr>
          <a:xfrm>
            <a:off x="1258920" y="1125360"/>
            <a:ext cx="6891480" cy="5457960"/>
          </a:xfrm>
          <a:prstGeom prst="rect">
            <a:avLst/>
          </a:prstGeom>
          <a:ln w="0">
            <a:noFill/>
          </a:ln>
        </p:spPr>
      </p:pic>
    </p:spTree>
  </p:cSld>
  <p:transition>
    <p:comb dir="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7">
                                  <p:stCondLst>
                                    <p:cond delay="0"/>
                                  </p:stCondLst>
                                  <p:childTnLst>
                                    <p:set>
                                      <p:cBhvr>
                                        <p:cTn id="40" dur="1" fill="hold">
                                          <p:stCondLst>
                                            <p:cond delay="0"/>
                                          </p:stCondLst>
                                        </p:cTn>
                                        <p:tgtEl>
                                          <p:spTgt spid="75">
                                            <p:txEl>
                                              <p:pRg st="0" end="0"/>
                                            </p:txEl>
                                          </p:spTgt>
                                        </p:tgtEl>
                                        <p:attrNameLst>
                                          <p:attrName>style.visibility</p:attrName>
                                        </p:attrNameLst>
                                      </p:cBhvr>
                                      <p:to>
                                        <p:strVal val="visible"/>
                                      </p:to>
                                    </p:set>
                                    <p:animEffect filter="fade" transition="in">
                                      <p:cBhvr additive="repl">
                                        <p:cTn id="41" dur="1000"/>
                                        <p:tgtEl>
                                          <p:spTgt spid="75">
                                            <p:txEl>
                                              <p:pRg st="0" end="0"/>
                                            </p:txEl>
                                          </p:spTgt>
                                        </p:tgtEl>
                                      </p:cBhvr>
                                    </p:animEffect>
                                    <p:anim calcmode="lin" valueType="num">
                                      <p:cBhvr additive="repl">
                                        <p:cTn id="42"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43280" y="274320"/>
            <a:ext cx="4043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Wariant Ia</a:t>
            </a:r>
            <a:endParaRPr b="0" lang="en-US" sz="2400" spc="-1" strike="noStrike">
              <a:solidFill>
                <a:srgbClr val="000000"/>
              </a:solidFill>
              <a:latin typeface="Arial"/>
            </a:endParaRPr>
          </a:p>
        </p:txBody>
      </p:sp>
      <p:sp>
        <p:nvSpPr>
          <p:cNvPr id="7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Bierkowo + ZZO Czarnówko): Damnica, Dębnica Kaszubska, Główczyce, Kępice, Kobylnica, Słupsk (M), Słupsk (W), Smołdzino, Ustka (M), Ustka (W), Trzebielino, Lębork, Łeba, Cewice, Nowa Wieś Lęborska, Wicko, Choczewo, Łęczyce, Linia, Krokowa, Gniewino, Potęgowo, Hel, Władysławowo, Jastarnia, Puck (M), Puck (W) – </a:t>
            </a:r>
            <a:r>
              <a:rPr b="1" lang="en-US" sz="1400" spc="-1" strike="noStrike">
                <a:solidFill>
                  <a:srgbClr val="000000"/>
                </a:solidFill>
                <a:latin typeface="Arial"/>
              </a:rPr>
              <a:t>27 gminy, 356647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Eko Dolina): Gdynia, Sopot, Rumia, Reda, Wejherowo (M), Wejherowo (W), Kosakowo, Szemud, Luzino – </a:t>
            </a:r>
            <a:r>
              <a:rPr b="1" lang="en-US" sz="1400" spc="-1" strike="noStrike">
                <a:solidFill>
                  <a:srgbClr val="000000"/>
                </a:solidFill>
                <a:latin typeface="Arial"/>
              </a:rPr>
              <a:t>9 gmin, 460330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ierzno + ZZO Nowy Dwór k/Angowic): Borzytuchom, Bytów, Kołczygłowy, Lipnica, Parchowo, Studzienice, Tuchomie, Dziemiany, Lipusz, Miastko, Czarna Dąbrówka, Chmielno, Sierakowice, Sulęczyno, Chojnice (M), Chojnice (W), Czarne, Człuchów (M), Człuchów (W), Debrzno, Przechlewo, Konarzyny, Brusy, Koczała, Rzeczenica – </a:t>
            </a:r>
            <a:r>
              <a:rPr b="1" lang="en-US" sz="1400" spc="-1" strike="noStrike">
                <a:solidFill>
                  <a:srgbClr val="000000"/>
                </a:solidFill>
                <a:latin typeface="Arial"/>
              </a:rPr>
              <a:t>25 gmin; 23936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zadółki): Gdańsk, Pruszcz Gdański (M), Pruszcz Gdański (W); Żukowo, Kolbudy, Somonino, Kartuzy, Przodkowo, Przywidz – </a:t>
            </a:r>
            <a:r>
              <a:rPr b="1" lang="en-US" sz="1400" spc="-1" strike="noStrike">
                <a:solidFill>
                  <a:srgbClr val="000000"/>
                </a:solidFill>
                <a:latin typeface="Arial"/>
              </a:rPr>
              <a:t>9 gmin, 6028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Rokitki + ZZO Gilwa Mała): Tczew (M), Tczew (W), Subkowy, Cedry Wielkie, Pszczółki, Suchy Dąb, Trąbki Wielkie, Krynica Morska, Sztutowo, Stegna, Nowy Dwór Gdański, Ostaszewo, Miłoradz, Dzierzgoń, Mikołajki Pomorskie, Stary Dzierzgoń, Malbork (M), Malbork (W), Nowy Staw, Lichnowy, Stare Pole, Pelplin, Morzeszczyn, Gniew, Stary Targ, Kwidzyn (M), Kwidzyn (W), Prabuty, Gardeja, Ryjewo, Sadlinki, Sztum – </a:t>
            </a:r>
            <a:r>
              <a:rPr b="1" lang="en-US" sz="1400" spc="-1" strike="noStrike">
                <a:solidFill>
                  <a:srgbClr val="000000"/>
                </a:solidFill>
                <a:latin typeface="Arial"/>
              </a:rPr>
              <a:t>32 gminy, 365079 Mk</a:t>
            </a:r>
            <a:r>
              <a:rPr b="0" lang="en-US" sz="1400" spc="-1" strike="noStrike">
                <a:solidFill>
                  <a:srgbClr val="000000"/>
                </a:solidFill>
                <a:latin typeface="Arial"/>
              </a:rPr>
              <a:t> </a:t>
            </a:r>
            <a:r>
              <a:rPr b="0" lang="en-US" sz="1400" spc="-1" strike="noStrike">
                <a:solidFill>
                  <a:srgbClr val="ff6600"/>
                </a:solidFill>
                <a:latin typeface="Arial"/>
              </a:rPr>
              <a:t>/ewentualnie + Susz (woj. warmińsko-mazurskie – 12814 Mk) = 377893 Mk/;</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tary Las): Bobowo, Czarna Woda, Lubichowo, Kaliska, Osieczna, Osiek, Skarszewy, Skórcz (M), Skórcz (W), Smętowo Graniczne, Starogard Gdański (M), Starogard Gdański (W), Zblewo, Nowa Karczma, Stara Kiszewa, Karsin, Liniewo, Czersk, Kościerzyna (M), Kościerzyna (W), Stężyca – </a:t>
            </a:r>
            <a:r>
              <a:rPr b="1" lang="en-US" sz="1400" spc="-1" strike="noStrike">
                <a:solidFill>
                  <a:srgbClr val="000000"/>
                </a:solidFill>
                <a:latin typeface="Arial"/>
              </a:rPr>
              <a:t>21 gmin, 215884 Mk</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b</a:t>
            </a:r>
            <a:endParaRPr b="0" lang="en-US" sz="2400" spc="-1" strike="noStrike">
              <a:solidFill>
                <a:srgbClr val="000000"/>
              </a:solidFill>
              <a:latin typeface="Arial"/>
            </a:endParaRPr>
          </a:p>
        </p:txBody>
      </p:sp>
      <p:pic>
        <p:nvPicPr>
          <p:cNvPr id="82" name="" descr=""/>
          <p:cNvPicPr/>
          <p:nvPr/>
        </p:nvPicPr>
        <p:blipFill>
          <a:blip r:embed="rId2"/>
          <a:stretch/>
        </p:blipFill>
        <p:spPr>
          <a:xfrm>
            <a:off x="1332000" y="1052640"/>
            <a:ext cx="6891120" cy="5457600"/>
          </a:xfrm>
          <a:prstGeom prst="rect">
            <a:avLst/>
          </a:prstGeom>
          <a:ln w="0">
            <a:noFill/>
          </a:ln>
        </p:spPr>
      </p:pic>
    </p:spTree>
  </p:cSld>
  <p:transition>
    <p:comb dir="horz"/>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80">
                                            <p:txEl>
                                              <p:pRg st="0" end="0"/>
                                            </p:txEl>
                                          </p:spTgt>
                                        </p:tgtEl>
                                        <p:attrNameLst>
                                          <p:attrName>style.visibility</p:attrName>
                                        </p:attrNameLst>
                                      </p:cBhvr>
                                      <p:to>
                                        <p:strVal val="visible"/>
                                      </p:to>
                                    </p:set>
                                    <p:animEffect filter="fade" transition="in">
                                      <p:cBhvr additive="repl">
                                        <p:cTn id="50" dur="1000"/>
                                        <p:tgtEl>
                                          <p:spTgt spid="80">
                                            <p:txEl>
                                              <p:pRg st="0" end="0"/>
                                            </p:txEl>
                                          </p:spTgt>
                                        </p:tgtEl>
                                      </p:cBhvr>
                                    </p:animEffect>
                                    <p:anim calcmode="lin" valueType="num">
                                      <p:cBhvr additive="repl">
                                        <p:cTn id="51"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8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250560" y="1197000"/>
            <a:ext cx="8569080" cy="5113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Zgodnie z art. 4 pkt 1 lit. e ustawy z dnia 1 lipca 2011 r. o zmianie ustawy o utrzymaniu czystości i porządku w gminach oraz niektórych innych ustaw (Dz. U.  z 2011 Nr 152, poz. 897) w art. 3 w ust. 3 ustawy z dnia 27 kwietnia 2001 r. o odpadach dodaje się pkt 15b w brzmieniu:</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8000"/>
                </a:solidFill>
                <a:latin typeface="Arial"/>
              </a:rPr>
              <a:t>„</a:t>
            </a:r>
            <a:r>
              <a:rPr b="1" i="1" lang="en-US" sz="2400" spc="-1" strike="noStrike">
                <a:solidFill>
                  <a:srgbClr val="008000"/>
                </a:solidFill>
                <a:latin typeface="Arial"/>
              </a:rPr>
              <a:t>15b) </a:t>
            </a:r>
            <a:r>
              <a:rPr b="1" i="1" lang="en-US" sz="2400" spc="-1" strike="noStrike" u="sng">
                <a:solidFill>
                  <a:srgbClr val="008000"/>
                </a:solidFill>
                <a:uFillTx/>
                <a:latin typeface="Arial"/>
              </a:rPr>
              <a:t>regionie gospodarki odpadami komunalnymi</a:t>
            </a:r>
            <a:r>
              <a:rPr b="1" i="1" lang="en-US" sz="2400" spc="-1" strike="noStrike">
                <a:solidFill>
                  <a:srgbClr val="008000"/>
                </a:solidFill>
                <a:latin typeface="Arial"/>
              </a:rPr>
              <a:t> – rozumie się przez to określony w wojewódzkim planie gospodarki odpadami obszar liczący co najmniej </a:t>
            </a:r>
            <a:r>
              <a:rPr b="1" i="1" lang="en-US" sz="2800" spc="-1" strike="noStrike">
                <a:solidFill>
                  <a:srgbClr val="ff0000"/>
                </a:solidFill>
                <a:latin typeface="Arial"/>
              </a:rPr>
              <a:t>150 000 mieszkańców</a:t>
            </a:r>
            <a:r>
              <a:rPr b="1" i="1" lang="en-US" sz="2400" spc="-1" strike="noStrike">
                <a:solidFill>
                  <a:srgbClr val="008000"/>
                </a:solidFill>
                <a:latin typeface="Arial"/>
              </a:rPr>
              <a:t>; regionem gospodarki odpadami komunalnymi może być gmina licząca powyżej 500 000 mieszkańców;”</a:t>
            </a:r>
            <a:endParaRPr b="0" lang="en-US" sz="2400" spc="-1" strike="noStrike">
              <a:solidFill>
                <a:srgbClr val="000000"/>
              </a:solidFill>
              <a:latin typeface="Arial"/>
            </a:endParaRPr>
          </a:p>
        </p:txBody>
      </p:sp>
      <p:sp>
        <p:nvSpPr>
          <p:cNvPr id="43" name="PlaceHolder 2"/>
          <p:cNvSpPr>
            <a:spLocks noGrp="1"/>
          </p:cNvSpPr>
          <p:nvPr>
            <p:ph type="title"/>
          </p:nvPr>
        </p:nvSpPr>
        <p:spPr>
          <a:xfrm>
            <a:off x="2987280" y="274320"/>
            <a:ext cx="5699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jęcie instalacji regionalnej</a:t>
            </a:r>
            <a:endParaRPr b="0" lang="en-US" sz="24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2">
                                            <p:txEl>
                                              <p:pRg st="1" end="1"/>
                                            </p:txEl>
                                          </p:spTgt>
                                        </p:tgtEl>
                                        <p:attrNameLst>
                                          <p:attrName>style.visibility</p:attrName>
                                        </p:attrNameLst>
                                      </p:cBhvr>
                                      <p:to>
                                        <p:strVal val="visible"/>
                                      </p:to>
                                    </p:set>
                                    <p:animEffect filter="fade" transition="in">
                                      <p:cBhvr additive="repl">
                                        <p:cTn id="14" dur="1000"/>
                                        <p:tgtEl>
                                          <p:spTgt spid="42">
                                            <p:txEl>
                                              <p:pRg st="1" end="1"/>
                                            </p:txEl>
                                          </p:spTgt>
                                        </p:tgtEl>
                                      </p:cBhvr>
                                    </p:animEffect>
                                    <p:anim calcmode="lin" valueType="num">
                                      <p:cBhvr additive="repl">
                                        <p:cTn id="15"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43280" y="274320"/>
            <a:ext cx="4043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b</a:t>
            </a:r>
            <a:endParaRPr b="0" lang="en-US" sz="2400" spc="-1" strike="noStrike">
              <a:solidFill>
                <a:srgbClr val="000000"/>
              </a:solidFill>
              <a:latin typeface="Arial"/>
            </a:endParaRPr>
          </a:p>
        </p:txBody>
      </p:sp>
      <p:sp>
        <p:nvSpPr>
          <p:cNvPr id="8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Bierkowo + ZZO Czarnówko): Damnica, Dębnica Kaszubska, Główczyce, Kępice, Kobylnica, Słupsk (M), Słupsk (W), Smołdzino, Ustka (M), Ustka (W), Trzebielino, Lębork, Łeba, Cewice, Nowa Wieś Lęborska, Wicko, Choczewo, Łęczyce, Linia, Krokowa, Gniewino, Potęgowo, Czarna Dąbrówka, Chmielno, Sierakowice, Sulęczyno – </a:t>
            </a:r>
            <a:r>
              <a:rPr b="1" lang="en-US" sz="1400" spc="-1" strike="noStrike">
                <a:solidFill>
                  <a:srgbClr val="000000"/>
                </a:solidFill>
                <a:latin typeface="Arial"/>
              </a:rPr>
              <a:t>26 gminy, 334015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Eko Dolina): Gdynia, Sopot, Rumia, Reda, Wejherowo (M), Wejherowo (W), Kosakowo, Szemud, Hel, Władysławowo, Jastarnia, Puck (M), Puck (W), Luzino – </a:t>
            </a:r>
            <a:r>
              <a:rPr b="1" lang="en-US" sz="1400" spc="-1" strike="noStrike">
                <a:solidFill>
                  <a:srgbClr val="000000"/>
                </a:solidFill>
                <a:latin typeface="Arial"/>
              </a:rPr>
              <a:t>14 gmin, 5181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ierzno + ZZO Nowy Dwór k/Angowic): Borzytuchom, Bytów, Kołczygłowy, Lipnica, Parchowo, Studzienice, Tuchomie, Dziemiany, Lipusz, Miastko, Chojnice (M), Chojnice (W), Czarne, Człuchów (M), Człuchów (W), Debrzno, Przechlewo, Konarzyny, Brusy, Koczała, Rzeczenica – </a:t>
            </a:r>
            <a:r>
              <a:rPr b="1" lang="en-US" sz="1400" spc="-1" strike="noStrike">
                <a:solidFill>
                  <a:srgbClr val="000000"/>
                </a:solidFill>
                <a:latin typeface="Arial"/>
              </a:rPr>
              <a:t>21 gmin; 204202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zadółki): Gdańsk, Pruszcz Gdański (M), Pruszcz Gdański (W); Żukowo, Kolbudy, Somonino, Kartuzy, Przodkowo, Przywidz – </a:t>
            </a:r>
            <a:r>
              <a:rPr b="1" lang="en-US" sz="1400" spc="-1" strike="noStrike">
                <a:solidFill>
                  <a:srgbClr val="000000"/>
                </a:solidFill>
                <a:latin typeface="Arial"/>
              </a:rPr>
              <a:t>9 gmin, 6028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Rokitki + ZZO Gilwa Mała): Tczew (M), Tczew (W), Subkowy, Cedry Wielkie, Pszczółki, Suchy Dąb, Trąbki Wielkie, Krynica Morska, Sztutowo, Stegna, Nowy Dwór Gdański, Ostaszewo, Miłoradz, Dzierzgoń, Mikołajki Pomorskie, Stary Dzierzgoń, Malbork (M), Malbork (W), Nowy Staw, Lichnowy, Stare Pole, Pelplin, Morzeszczyn, Gniew, Stary Targ, Kwidzyn (M), Kwidzyn (W), Prabuty, Gardeja, Ryjewo, Sadlinki, Sztum – </a:t>
            </a:r>
            <a:r>
              <a:rPr b="1" lang="en-US" sz="1400" spc="-1" strike="noStrike">
                <a:solidFill>
                  <a:srgbClr val="000000"/>
                </a:solidFill>
                <a:latin typeface="Arial"/>
              </a:rPr>
              <a:t>32 gminy, 365079 Mk</a:t>
            </a:r>
            <a:r>
              <a:rPr b="0" lang="en-US" sz="1400" spc="-1" strike="noStrike">
                <a:solidFill>
                  <a:srgbClr val="000000"/>
                </a:solidFill>
                <a:latin typeface="Arial"/>
              </a:rPr>
              <a:t> </a:t>
            </a:r>
            <a:r>
              <a:rPr b="0" lang="en-US" sz="1400" spc="-1" strike="noStrike">
                <a:solidFill>
                  <a:srgbClr val="ff6600"/>
                </a:solidFill>
                <a:latin typeface="Arial"/>
              </a:rPr>
              <a:t>/ewentualnie + Susz (woj. warmińsko-mazurskie – 12814 Mk) = 377893 Mk/;</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tary Las): Bobowo, Czarna Woda, Lubichowo, Kaliska, Osieczna, Osiek, Skarszewy, Skórcz (M), Skórcz (W), Smętowo Graniczne, Starogard Gdański (M), Starogard Gdański (W), Zblewo, Nowa Karczma, Stara Kiszewa, Karsin, Liniewo, Czersk, Kościerzyna (M), Kościerzyna (W), Stężyca – </a:t>
            </a:r>
            <a:r>
              <a:rPr b="1" lang="en-US" sz="1400" spc="-1" strike="noStrike">
                <a:solidFill>
                  <a:srgbClr val="000000"/>
                </a:solidFill>
                <a:latin typeface="Arial"/>
              </a:rPr>
              <a:t>21 gmin, 215884 Mk</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6"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Wariant Ic</a:t>
            </a:r>
            <a:endParaRPr b="0" lang="en-US" sz="2400" spc="-1" strike="noStrike">
              <a:solidFill>
                <a:srgbClr val="000000"/>
              </a:solidFill>
              <a:latin typeface="Arial"/>
            </a:endParaRPr>
          </a:p>
        </p:txBody>
      </p:sp>
      <p:pic>
        <p:nvPicPr>
          <p:cNvPr id="87" name="" descr=""/>
          <p:cNvPicPr/>
          <p:nvPr/>
        </p:nvPicPr>
        <p:blipFill>
          <a:blip r:embed="rId2"/>
          <a:stretch/>
        </p:blipFill>
        <p:spPr>
          <a:xfrm>
            <a:off x="971640" y="1125360"/>
            <a:ext cx="6891120" cy="5457960"/>
          </a:xfrm>
          <a:prstGeom prst="rect">
            <a:avLst/>
          </a:prstGeom>
          <a:ln w="0">
            <a:noFill/>
          </a:ln>
        </p:spPr>
      </p:pic>
    </p:spTree>
  </p:cSld>
  <p:transition>
    <p:comb dir="horz"/>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1000"/>
                                        <p:tgtEl>
                                          <p:spTgt spid="85">
                                            <p:txEl>
                                              <p:pRg st="0" end="0"/>
                                            </p:txEl>
                                          </p:spTgt>
                                        </p:tgtEl>
                                      </p:cBhvr>
                                    </p:animEffect>
                                    <p:anim calcmode="lin" valueType="num">
                                      <p:cBhvr additive="repl">
                                        <p:cTn id="60"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43280" y="274320"/>
            <a:ext cx="4043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Wariant Ic</a:t>
            </a:r>
            <a:endParaRPr b="0" lang="en-US" sz="2400" spc="-1" strike="noStrike">
              <a:solidFill>
                <a:srgbClr val="000000"/>
              </a:solidFill>
              <a:latin typeface="Arial"/>
            </a:endParaRPr>
          </a:p>
        </p:txBody>
      </p:sp>
      <p:sp>
        <p:nvSpPr>
          <p:cNvPr id="8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Bierkowo + ZZO Czarnówko): Damnica, Dębnica Kaszubska, Główczyce, Kępice, Kobylnica, Słupsk (M), Słupsk (W), Smołdzino, Ustka (M), Ustka (W), Trzebielino, Lębork, Łeba, Cewice, Nowa Wieś Lęborska, Wicko, Choczewo, Łęczyce, Linia, Krokowa, Gniewino, Potęgowo, Hel, Władysławowo, Jastarnia, Puck (M), Puck (W), Czarna Dąbrówka, Chmielno, Sierakowice, Sulęczyno, – </a:t>
            </a:r>
            <a:r>
              <a:rPr b="1" lang="en-US" sz="1400" spc="-1" strike="noStrike">
                <a:solidFill>
                  <a:srgbClr val="000000"/>
                </a:solidFill>
                <a:latin typeface="Arial"/>
              </a:rPr>
              <a:t>31 gmin, 391806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Eko Dolina): Gdynia, Sopot, Rumia, Reda, Wejherowo (M), Wejherowo (W), Kosakowo, Szemud, Luzino – </a:t>
            </a:r>
            <a:r>
              <a:rPr b="1" lang="en-US" sz="1400" spc="-1" strike="noStrike">
                <a:solidFill>
                  <a:srgbClr val="000000"/>
                </a:solidFill>
                <a:latin typeface="Arial"/>
              </a:rPr>
              <a:t>9 gmin, 460330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ierzno + ZZO Nowy Dwór k/Angowic): Borzytuchom, Bytów, Kołczygłowy, Lipnica, Parchowo, Studzienice, Tuchomie, Dziemiany, Lipusz, Miastko, Chojnice (M), Chojnice (W), Czarne, Człuchów (M), Człuchów (W), Debrzno, Przechlewo, Konarzyny, Brusy, Koczała, Rzeczenica – </a:t>
            </a:r>
            <a:r>
              <a:rPr b="1" lang="en-US" sz="1400" spc="-1" strike="noStrike">
                <a:solidFill>
                  <a:srgbClr val="000000"/>
                </a:solidFill>
                <a:latin typeface="Arial"/>
              </a:rPr>
              <a:t>21 gmin; 204202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zadółki): Gdańsk, Pruszcz Gdański (M), Pruszcz Gdański (W); Żukowo, Kolbudy, Somonino, Kartuzy, Przodkowo, Przywidz – </a:t>
            </a:r>
            <a:r>
              <a:rPr b="1" lang="en-US" sz="1400" spc="-1" strike="noStrike">
                <a:solidFill>
                  <a:srgbClr val="000000"/>
                </a:solidFill>
                <a:latin typeface="Arial"/>
              </a:rPr>
              <a:t>9 gmin, 6028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Rokitki + ZZO Gilwa Mała): Tczew (M), Tczew (W), Subkowy, Cedry Wielkie, Pszczółki, Suchy Dąb, Trąbki Wielkie, Krynica Morska, Sztutowo, Stegna, Nowy Dwór Gdański, Ostaszewo, Miłoradz, Dzierzgoń, Mikołajki Pomorskie, Stary Dzierzgoń, Malbork (M), Malbork (W), Nowy Staw, Lichnowy, Stare Pole, Pelplin, Morzeszczyn, Gniew, Stary Targ, Kwidzyn (M), Kwidzyn (W), Prabuty, Gardeja, Ryjewo, Sadlinki, Sztum – </a:t>
            </a:r>
            <a:r>
              <a:rPr b="1" lang="en-US" sz="1400" spc="-1" strike="noStrike">
                <a:solidFill>
                  <a:srgbClr val="000000"/>
                </a:solidFill>
                <a:latin typeface="Arial"/>
              </a:rPr>
              <a:t>32 gminy, 365079 Mk</a:t>
            </a:r>
            <a:r>
              <a:rPr b="0" lang="en-US" sz="1400" spc="-1" strike="noStrike">
                <a:solidFill>
                  <a:srgbClr val="000000"/>
                </a:solidFill>
                <a:latin typeface="Arial"/>
              </a:rPr>
              <a:t> </a:t>
            </a:r>
            <a:r>
              <a:rPr b="0" lang="en-US" sz="1400" spc="-1" strike="noStrike">
                <a:solidFill>
                  <a:srgbClr val="ff6600"/>
                </a:solidFill>
                <a:latin typeface="Arial"/>
              </a:rPr>
              <a:t>/ewentualnie + Susz (woj. warmińsko-mazurskie – 12814 Mk) = 377893 Mk/;</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tary Las): Bobowo, Czarna Woda, Lubichowo, Kaliska, Osieczna, Osiek, Skarszewy, Skórcz (M), Skórcz (W), Smętowo Graniczne, Starogard Gdański (M), Starogard Gdański (W), Zblewo, Nowa Karczma, Stara Kiszewa, Karsin, Liniewo, Czersk, Kościerzyna (M), Kościerzyna (W), Stężyca – </a:t>
            </a:r>
            <a:r>
              <a:rPr b="1" lang="en-US" sz="1400" spc="-1" strike="noStrike">
                <a:solidFill>
                  <a:srgbClr val="000000"/>
                </a:solidFill>
                <a:latin typeface="Arial"/>
              </a:rPr>
              <a:t>21 gmin, 215884 Mk</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d</a:t>
            </a:r>
            <a:endParaRPr b="0" lang="en-US" sz="2400" spc="-1" strike="noStrike">
              <a:solidFill>
                <a:srgbClr val="000000"/>
              </a:solidFill>
              <a:latin typeface="Arial"/>
            </a:endParaRPr>
          </a:p>
        </p:txBody>
      </p:sp>
      <p:pic>
        <p:nvPicPr>
          <p:cNvPr id="92" name="" descr=""/>
          <p:cNvPicPr/>
          <p:nvPr/>
        </p:nvPicPr>
        <p:blipFill>
          <a:blip r:embed="rId2"/>
          <a:stretch/>
        </p:blipFill>
        <p:spPr>
          <a:xfrm>
            <a:off x="755640" y="1197000"/>
            <a:ext cx="6891480" cy="5457960"/>
          </a:xfrm>
          <a:prstGeom prst="rect">
            <a:avLst/>
          </a:prstGeom>
          <a:ln w="0">
            <a:noFill/>
          </a:ln>
        </p:spPr>
      </p:pic>
    </p:spTree>
  </p:cSld>
  <p:transition>
    <p:comb dir="horz"/>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7">
                                  <p:stCondLst>
                                    <p:cond delay="0"/>
                                  </p:stCondLst>
                                  <p:childTnLst>
                                    <p:set>
                                      <p:cBhvr>
                                        <p:cTn id="67" dur="1" fill="hold">
                                          <p:stCondLst>
                                            <p:cond delay="0"/>
                                          </p:stCondLst>
                                        </p:cTn>
                                        <p:tgtEl>
                                          <p:spTgt spid="90">
                                            <p:txEl>
                                              <p:pRg st="0" end="0"/>
                                            </p:txEl>
                                          </p:spTgt>
                                        </p:tgtEl>
                                        <p:attrNameLst>
                                          <p:attrName>style.visibility</p:attrName>
                                        </p:attrNameLst>
                                      </p:cBhvr>
                                      <p:to>
                                        <p:strVal val="visible"/>
                                      </p:to>
                                    </p:set>
                                    <p:animEffect filter="fade" transition="in">
                                      <p:cBhvr additive="repl">
                                        <p:cTn id="68" dur="1000"/>
                                        <p:tgtEl>
                                          <p:spTgt spid="90">
                                            <p:txEl>
                                              <p:pRg st="0" end="0"/>
                                            </p:txEl>
                                          </p:spTgt>
                                        </p:tgtEl>
                                      </p:cBhvr>
                                    </p:animEffect>
                                    <p:anim calcmode="lin" valueType="num">
                                      <p:cBhvr additive="repl">
                                        <p:cTn id="69"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43280" y="274320"/>
            <a:ext cx="4043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d</a:t>
            </a:r>
            <a:endParaRPr b="0" lang="en-US" sz="2400" spc="-1" strike="noStrike">
              <a:solidFill>
                <a:srgbClr val="000000"/>
              </a:solidFill>
              <a:latin typeface="Arial"/>
            </a:endParaRPr>
          </a:p>
        </p:txBody>
      </p:sp>
      <p:sp>
        <p:nvSpPr>
          <p:cNvPr id="9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Bierkowo + ZZO Czarnówko): Damnica, Dębnica Kaszubska, Główczyce, Kępice, Kobylnica, Słupsk (M), Słupsk (W), Smołdzino, Ustka (M), Ustka (W), Trzebielino, Lębork, Łeba, Cewice, Nowa Wieś Lęborska, Wicko, Choczewo, Łęczyce, Linia, Krokowa, Gniewino, Potęgowo, Hel, Władysławowo, Jastarnia, Puck (M), Puck (W), Czarna Dąbrówka, Chmielno, Sierakowice, Sulęczyno, – </a:t>
            </a:r>
            <a:r>
              <a:rPr b="1" lang="en-US" sz="1400" spc="-1" strike="noStrike">
                <a:solidFill>
                  <a:srgbClr val="000000"/>
                </a:solidFill>
                <a:latin typeface="Arial"/>
              </a:rPr>
              <a:t>31 gmin, 391806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Eko Dolina): Gdynia, Sopot, Rumia, Reda, Wejherowo (M), Wejherowo (W), Kosakowo, Szemud, Luzino – </a:t>
            </a:r>
            <a:r>
              <a:rPr b="1" lang="en-US" sz="1400" spc="-1" strike="noStrike">
                <a:solidFill>
                  <a:srgbClr val="000000"/>
                </a:solidFill>
                <a:latin typeface="Arial"/>
              </a:rPr>
              <a:t>9 gmin, 460330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ierzno + ZZO Nowy Dwór k/Angowic): Borzytuchom, Bytów, Kołczygłowy, Lipnica, Parchowo, Studzienice, Tuchomie, Dziemiany, Lipusz, Miastko, Chojnice (M), Chojnice (W), Czarne, Człuchów (M), Człuchów (W), Debrzno, Przechlewo, Konarzyny, Brusy, Koczała, Rzeczenica, Czersk – </a:t>
            </a:r>
            <a:r>
              <a:rPr b="1" lang="en-US" sz="1400" spc="-1" strike="noStrike">
                <a:solidFill>
                  <a:srgbClr val="000000"/>
                </a:solidFill>
                <a:latin typeface="Arial"/>
              </a:rPr>
              <a:t>22 gminy; 225122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zadółki): Gdańsk, Pruszcz Gdański (M), Pruszcz Gdański (W); Żukowo, Kolbudy, Somonino, Kartuzy, Przodkowo, Przywidz – </a:t>
            </a:r>
            <a:r>
              <a:rPr b="1" lang="en-US" sz="1400" spc="-1" strike="noStrike">
                <a:solidFill>
                  <a:srgbClr val="000000"/>
                </a:solidFill>
                <a:latin typeface="Arial"/>
              </a:rPr>
              <a:t>9 gmin, 6028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Rokitki + ZZO Gilwa Mała): Tczew (M), Tczew (W), Subkowy, Cedry Wielkie, Pszczółki, Suchy Dąb, Trąbki Wielkie, Krynica Morska, Sztutowo, Stegna, Nowy Dwór Gdański, Ostaszewo, Miłoradz, Dzierzgoń, Mikołajki Pomorskie, Stary Dzierzgoń, Malbork (M), Malbork (W), Nowy Staw, Lichnowy, Stare Pole, Pelplin, Morzeszczyn, Gniew, Stary Targ, Kwidzyn (M), Kwidzyn (W), Prabuty, Gardeja, Ryjewo, Sadlinki, Sztum – </a:t>
            </a:r>
            <a:r>
              <a:rPr b="1" lang="en-US" sz="1400" spc="-1" strike="noStrike">
                <a:solidFill>
                  <a:srgbClr val="000000"/>
                </a:solidFill>
                <a:latin typeface="Arial"/>
              </a:rPr>
              <a:t>32 gminy, 365079 Mk</a:t>
            </a:r>
            <a:r>
              <a:rPr b="0" lang="en-US" sz="1400" spc="-1" strike="noStrike">
                <a:solidFill>
                  <a:srgbClr val="000000"/>
                </a:solidFill>
                <a:latin typeface="Arial"/>
              </a:rPr>
              <a:t> </a:t>
            </a:r>
            <a:r>
              <a:rPr b="0" lang="en-US" sz="1400" spc="-1" strike="noStrike">
                <a:solidFill>
                  <a:srgbClr val="ff6600"/>
                </a:solidFill>
                <a:latin typeface="Arial"/>
              </a:rPr>
              <a:t>/ewentualnie + Susz (woj. warmińsko-mazurskie – 12814 Mk) = 377893 Mk/;</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tary Las): Bobowo, Czarna Woda, Lubichowo, Kaliska, Osieczna, Osiek, Skarszewy, Skórcz (M), Skórcz (W), Smętowo Graniczne, Starogard Gdański (M), Starogard Gdański (W), Zblewo, Nowa Karczma, Stara Kiszewa, Karsin, Liniewo, Kościerzyna (M), Kościerzyna (W), Stężyca – </a:t>
            </a:r>
            <a:r>
              <a:rPr b="1" lang="en-US" sz="1400" spc="-1" strike="noStrike">
                <a:solidFill>
                  <a:srgbClr val="000000"/>
                </a:solidFill>
                <a:latin typeface="Arial"/>
              </a:rPr>
              <a:t>20 gmin, 194964 Mk</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6"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I</a:t>
            </a:r>
            <a:endParaRPr b="0" lang="en-US" sz="2400" spc="-1" strike="noStrike">
              <a:solidFill>
                <a:srgbClr val="000000"/>
              </a:solidFill>
              <a:latin typeface="Arial"/>
            </a:endParaRPr>
          </a:p>
        </p:txBody>
      </p:sp>
      <p:pic>
        <p:nvPicPr>
          <p:cNvPr id="97" name="" descr=""/>
          <p:cNvPicPr/>
          <p:nvPr/>
        </p:nvPicPr>
        <p:blipFill>
          <a:blip r:embed="rId2"/>
          <a:stretch/>
        </p:blipFill>
        <p:spPr>
          <a:xfrm>
            <a:off x="1187280" y="1125360"/>
            <a:ext cx="6891480" cy="5457960"/>
          </a:xfrm>
          <a:prstGeom prst="rect">
            <a:avLst/>
          </a:prstGeom>
          <a:ln w="0">
            <a:noFill/>
          </a:ln>
        </p:spPr>
      </p:pic>
    </p:spTree>
  </p:cSld>
  <p:transition>
    <p:comb dir="horz"/>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7">
                                  <p:stCondLst>
                                    <p:cond delay="0"/>
                                  </p:stCondLst>
                                  <p:childTnLst>
                                    <p:set>
                                      <p:cBhvr>
                                        <p:cTn id="7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7" dur="1000"/>
                                        <p:tgtEl>
                                          <p:spTgt spid="95">
                                            <p:txEl>
                                              <p:pRg st="0" end="0"/>
                                            </p:txEl>
                                          </p:spTgt>
                                        </p:tgtEl>
                                      </p:cBhvr>
                                    </p:animEffect>
                                    <p:anim calcmode="lin" valueType="num">
                                      <p:cBhvr additive="repl">
                                        <p:cTn id="78"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43280" y="274320"/>
            <a:ext cx="4043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I</a:t>
            </a:r>
            <a:endParaRPr b="0" lang="en-US" sz="2400" spc="-1" strike="noStrike">
              <a:solidFill>
                <a:srgbClr val="000000"/>
              </a:solidFill>
              <a:latin typeface="Arial"/>
            </a:endParaRPr>
          </a:p>
        </p:txBody>
      </p:sp>
      <p:sp>
        <p:nvSpPr>
          <p:cNvPr id="9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Bierkowo): Damnica, Dębnica Kaszubska, Główczyce, Kępice, Kobylnica, Słupsk (M), Słupsk (W), Smołdzino, Ustka (M), Ustka (W), Trzebielino – </a:t>
            </a:r>
            <a:r>
              <a:rPr b="1" lang="en-US" sz="1400" spc="-1" strike="noStrike">
                <a:solidFill>
                  <a:srgbClr val="000000"/>
                </a:solidFill>
                <a:latin typeface="Arial"/>
              </a:rPr>
              <a:t>11 gmin, 186929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Czarnówko): Lębork, Łeba, Cewice, Nowa Wieś Lęborska, Wicko, Choczewo, Łęczyce, Linia, Krokowa, Gniewino, Potęgowo, Hel, Władysławowo, Jastarnia, Puck (M), Puck (W) - </a:t>
            </a:r>
            <a:r>
              <a:rPr b="1" lang="en-US" sz="1400" spc="-1" strike="noStrike">
                <a:solidFill>
                  <a:srgbClr val="000000"/>
                </a:solidFill>
                <a:latin typeface="Arial"/>
              </a:rPr>
              <a:t>16 gmin, 169718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Eko Dolina): Gdynia, Sopot, Rumia, Reda, Wejherowo (M), Wejherowo (W), Kosakowo, Szemud, Luzino – </a:t>
            </a:r>
            <a:r>
              <a:rPr b="1" lang="en-US" sz="1400" spc="-1" strike="noStrike">
                <a:solidFill>
                  <a:srgbClr val="000000"/>
                </a:solidFill>
                <a:latin typeface="Arial"/>
              </a:rPr>
              <a:t>9 gmin, 460330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ierzno): Borzytuchom, Bytów, Kołczygłowy, Lipnica, Parchowo, Studzienice, Tuchomie, Dziemiany, Lipusz, Miastko, Czarna Dąbrówka, Chmielno, Sierakowice, Sulęczyno, Kościerzyna (M), Kościerzyna (W), Stężyca – </a:t>
            </a:r>
            <a:r>
              <a:rPr b="1" lang="en-US" sz="1400" spc="-1" strike="noStrike">
                <a:solidFill>
                  <a:srgbClr val="000000"/>
                </a:solidFill>
                <a:latin typeface="Arial"/>
              </a:rPr>
              <a:t>17 gmin; 163184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zadółki): Gdańsk, Pruszcz Gdański (M), Pruszcz Gdański (W); Żukowo, Kolbudy, Somonino, Kartuzy, Przodkowo, Przywidz – </a:t>
            </a:r>
            <a:r>
              <a:rPr b="1" lang="en-US" sz="1400" spc="-1" strike="noStrike">
                <a:solidFill>
                  <a:srgbClr val="000000"/>
                </a:solidFill>
                <a:latin typeface="Arial"/>
              </a:rPr>
              <a:t>9 gmin, 6028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Rokitki): Tczew (M), Tczew (W), Subkowy, Cedry Wielkie, Pszczółki, Suchy Dąb, Trąbki Wielkie, Krynica Morska, Sztutowo, Stegna, Nowy Dwór Gdański, Ostaszewo, Miłoradz, Dzierzgoń, Mikołajki Pomorskie, Stary Dzierzgoń, Malbork (M), Malbork (W), Nowy Staw, Lichnowy, Stare Pole, Pelplin – </a:t>
            </a:r>
            <a:r>
              <a:rPr b="1" lang="en-US" sz="1400" spc="-1" strike="noStrike">
                <a:solidFill>
                  <a:srgbClr val="000000"/>
                </a:solidFill>
                <a:latin typeface="Arial"/>
              </a:rPr>
              <a:t>22 gminy, 365079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Gilwa Mała): Stary Targ, Kwidzyn (M), Kwidzyn (W), Prabuty, Gardeja, Ryjewo, Sadlinki, Sztum, Gniew – </a:t>
            </a:r>
            <a:r>
              <a:rPr b="1" lang="en-US" sz="1400" spc="-1" strike="noStrike">
                <a:solidFill>
                  <a:srgbClr val="000000"/>
                </a:solidFill>
                <a:latin typeface="Arial"/>
              </a:rPr>
              <a:t>12 gmin, 139107 Mk</a:t>
            </a:r>
            <a:r>
              <a:rPr b="0" lang="en-US" sz="1400" spc="-1" strike="noStrike">
                <a:solidFill>
                  <a:srgbClr val="000000"/>
                </a:solidFill>
                <a:latin typeface="Arial"/>
              </a:rPr>
              <a:t> </a:t>
            </a:r>
            <a:r>
              <a:rPr b="0" lang="en-US" sz="1400" spc="-1" strike="noStrike">
                <a:solidFill>
                  <a:srgbClr val="ff6600"/>
                </a:solidFill>
                <a:latin typeface="Arial"/>
              </a:rPr>
              <a:t>+ Susz (woj. warmińsko-mazurskie – 12814 Mk) = </a:t>
            </a:r>
            <a:r>
              <a:rPr b="1" lang="en-US" sz="1400" spc="-1" strike="noStrike">
                <a:solidFill>
                  <a:srgbClr val="000000"/>
                </a:solidFill>
                <a:latin typeface="Arial"/>
              </a:rPr>
              <a:t>1519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tary Las): Bobowo, Czarna Woda, Lubichowo, Kaliska, Osieczna, Osiek, Skarszewy, Skórcz (M), Skórcz (W), Smętowo Graniczne, Starogard Gdański (M), Starogard Gdański (W), Zblewo, Nowa Karczma, Stara Kiszewa, Karsin, Liniewo, Morzeszczyn – </a:t>
            </a:r>
            <a:r>
              <a:rPr b="1" lang="en-US" sz="1400" spc="-1" strike="noStrike">
                <a:solidFill>
                  <a:srgbClr val="000000"/>
                </a:solidFill>
                <a:latin typeface="Arial"/>
              </a:rPr>
              <a:t>18 gmin, 152018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Nowy Dwór k/Angowic): Chojnice (M), Chojnice (W), Czarne, Człuchów (M), Człuchów (W), Debrzno, Przechlewo, Konarzyny, Brusy, Koczała, Rzeczenica, Czersk – </a:t>
            </a:r>
            <a:r>
              <a:rPr b="1" lang="en-US" sz="1400" spc="-1" strike="noStrike">
                <a:solidFill>
                  <a:srgbClr val="000000"/>
                </a:solidFill>
                <a:latin typeface="Arial"/>
              </a:rPr>
              <a:t>13 gmin; 150547 M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II</a:t>
            </a:r>
            <a:endParaRPr b="0" lang="en-US" sz="2400" spc="-1" strike="noStrike">
              <a:solidFill>
                <a:srgbClr val="000000"/>
              </a:solidFill>
              <a:latin typeface="Arial"/>
            </a:endParaRPr>
          </a:p>
        </p:txBody>
      </p:sp>
      <p:pic>
        <p:nvPicPr>
          <p:cNvPr id="102" name="" descr=""/>
          <p:cNvPicPr/>
          <p:nvPr/>
        </p:nvPicPr>
        <p:blipFill>
          <a:blip r:embed="rId2"/>
          <a:stretch/>
        </p:blipFill>
        <p:spPr>
          <a:xfrm>
            <a:off x="971640" y="1125360"/>
            <a:ext cx="6891120" cy="5457960"/>
          </a:xfrm>
          <a:prstGeom prst="rect">
            <a:avLst/>
          </a:prstGeom>
          <a:ln w="0">
            <a:noFill/>
          </a:ln>
        </p:spPr>
      </p:pic>
    </p:spTree>
  </p:cSld>
  <p:transition>
    <p:comb dir="horz"/>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100">
                                            <p:txEl>
                                              <p:pRg st="0" end="0"/>
                                            </p:txEl>
                                          </p:spTgt>
                                        </p:tgtEl>
                                        <p:attrNameLst>
                                          <p:attrName>style.visibility</p:attrName>
                                        </p:attrNameLst>
                                      </p:cBhvr>
                                      <p:to>
                                        <p:strVal val="visible"/>
                                      </p:to>
                                    </p:set>
                                    <p:animEffect filter="fade" transition="in">
                                      <p:cBhvr additive="repl">
                                        <p:cTn id="86" dur="1000"/>
                                        <p:tgtEl>
                                          <p:spTgt spid="100">
                                            <p:txEl>
                                              <p:pRg st="0" end="0"/>
                                            </p:txEl>
                                          </p:spTgt>
                                        </p:tgtEl>
                                      </p:cBhvr>
                                    </p:animEffect>
                                    <p:anim calcmode="lin" valueType="num">
                                      <p:cBhvr additive="repl">
                                        <p:cTn id="87"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43280" y="274320"/>
            <a:ext cx="4043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II</a:t>
            </a:r>
            <a:endParaRPr b="0" lang="en-US" sz="2400" spc="-1" strike="noStrike">
              <a:solidFill>
                <a:srgbClr val="000000"/>
              </a:solidFill>
              <a:latin typeface="Arial"/>
            </a:endParaRPr>
          </a:p>
        </p:txBody>
      </p:sp>
      <p:sp>
        <p:nvSpPr>
          <p:cNvPr id="10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ZO Bierkowo + ZZO Czarnówko + ZZO Eko Dolina + ZZO Sierzno + ZZO Nowy Dwór k/Angowic + ZZO Szadółki + ZZO Rokitki + ZZO Gilwa Mała + ZZO Stary Las): Damnica, Dębnica Kaszubska, Główczyce, Kępice, Kobylnica, Słupsk (M), Słupsk (W), Smołdzino, Ustka (M), Ustka (W), Trzebielino, Lębork, Łeba, Cewice, Nowa Wieś Lęborska, Wicko, Choczewo, Łęczyce, Linia, Krokowa, Gniewino, Potęgowo, Gdynia, Sopot, Rumia, Reda, Wejherowo (M), Wejherowo (W), Kosakowo, Szemud, Hel, Władysławowo, Jastarnia, Puck (M), Puck (W), Luzino, Borzytuchom, Bytów, Kołczygłowy, Lipnica, Parchowo, Studzienice, Tuchomie, Dziemiany, Lipusz, Miastko, Czarna Dąbrówka, Chmielno, Sierakowice, Sulęczyno, Chojnice (M), Chojnice (W), Czarne, Człuchów (M), Człuchów (W), Debrzno, Przechlewo, Konarzyny, Brusy, Koczała, Rzeczenica, Gdańsk, Pruszcz Gdański (M), Pruszcz Gdański (W); Żukowo, Kolbudy, Somonino, Kartuzy, Przodkowo, Przywidz, (): Tczew (M), Tczew (W), Subkowy, Cedry Wielkie, Pszczółki, Suchy Dąb, Trąbki Wielkie, Krynica Morska, Sztutowo, Stegna, Nowy Dwór Gdański, Ostaszewo, Miłoradz, Dzierzgoń, Mikołajki Pomorskie, Stary Dzierzgoń, Malbork (M), Malbork (W), Nowy Staw, Lichnowy, Stare Pole, Pelplin, Morzeszczyn, Gniew, Stary Targ, Kwidzyn (M), Kwidzyn (W), Prabuty, Gardeja, Ryjewo, Sadlinki, Sztum, Bobowo, Czarna Woda, Lubichowo, Kaliska, Osieczna, Osiek, Skarszewy, Skórcz (M), Skórcz (W), Smętowo Graniczne, Starogard Gdański (M), Starogard Gdański (W), Zblewo, Nowa Karczma, Stara Kiszewa, Karsin, Liniewo, Czersk, Kościerzyna (M), Kościerzyna (W), Stężyca – </a:t>
            </a:r>
            <a:r>
              <a:rPr b="1" lang="en-US" sz="1600" spc="-1" strike="noStrike">
                <a:solidFill>
                  <a:srgbClr val="000000"/>
                </a:solidFill>
                <a:latin typeface="Arial"/>
              </a:rPr>
              <a:t>123 gminy, 2240319 Mk</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6"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V</a:t>
            </a:r>
            <a:endParaRPr b="0" lang="en-US" sz="2400" spc="-1" strike="noStrike">
              <a:solidFill>
                <a:srgbClr val="000000"/>
              </a:solidFill>
              <a:latin typeface="Arial"/>
            </a:endParaRPr>
          </a:p>
        </p:txBody>
      </p:sp>
      <p:pic>
        <p:nvPicPr>
          <p:cNvPr id="107" name="" descr=""/>
          <p:cNvPicPr/>
          <p:nvPr/>
        </p:nvPicPr>
        <p:blipFill>
          <a:blip r:embed="rId2"/>
          <a:stretch/>
        </p:blipFill>
        <p:spPr>
          <a:xfrm>
            <a:off x="826920" y="1197000"/>
            <a:ext cx="6891480" cy="5457960"/>
          </a:xfrm>
          <a:prstGeom prst="rect">
            <a:avLst/>
          </a:prstGeom>
          <a:ln w="0">
            <a:noFill/>
          </a:ln>
        </p:spPr>
      </p:pic>
    </p:spTree>
  </p:cSld>
  <p:transition>
    <p:comb dir="horz"/>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7">
                                  <p:stCondLst>
                                    <p:cond delay="0"/>
                                  </p:stCondLst>
                                  <p:childTnLst>
                                    <p:set>
                                      <p:cBhvr>
                                        <p:cTn id="9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95" dur="1000"/>
                                        <p:tgtEl>
                                          <p:spTgt spid="105">
                                            <p:txEl>
                                              <p:pRg st="0" end="0"/>
                                            </p:txEl>
                                          </p:spTgt>
                                        </p:tgtEl>
                                      </p:cBhvr>
                                    </p:animEffect>
                                    <p:anim calcmode="lin" valueType="num">
                                      <p:cBhvr additive="repl">
                                        <p:cTn id="96"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pic>
        <p:nvPicPr>
          <p:cNvPr id="46" name="" descr=""/>
          <p:cNvPicPr/>
          <p:nvPr/>
        </p:nvPicPr>
        <p:blipFill>
          <a:blip r:embed="rId2"/>
          <a:stretch/>
        </p:blipFill>
        <p:spPr>
          <a:xfrm>
            <a:off x="755640" y="1125360"/>
            <a:ext cx="6927840" cy="5486400"/>
          </a:xfrm>
          <a:prstGeom prst="rect">
            <a:avLst/>
          </a:prstGeom>
          <a:ln w="0">
            <a:noFill/>
          </a:ln>
        </p:spPr>
      </p:pic>
    </p:spTree>
  </p:cSld>
  <p:transition>
    <p:comb dir="horz"/>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44">
                                            <p:txEl>
                                              <p:pRg st="0" end="0"/>
                                            </p:txEl>
                                          </p:spTgt>
                                        </p:tgtEl>
                                        <p:attrNameLst>
                                          <p:attrName>style.visibility</p:attrName>
                                        </p:attrNameLst>
                                      </p:cBhvr>
                                      <p:to>
                                        <p:strVal val="visible"/>
                                      </p:to>
                                    </p:set>
                                    <p:animEffect filter="fade" transition="in">
                                      <p:cBhvr additive="repl">
                                        <p:cTn id="23" dur="1000"/>
                                        <p:tgtEl>
                                          <p:spTgt spid="44">
                                            <p:txEl>
                                              <p:pRg st="0" end="0"/>
                                            </p:txEl>
                                          </p:spTgt>
                                        </p:tgtEl>
                                      </p:cBhvr>
                                    </p:animEffect>
                                    <p:anim calcmode="lin" valueType="num">
                                      <p:cBhvr additive="repl">
                                        <p:cTn id="24"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43280" y="274320"/>
            <a:ext cx="4043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V</a:t>
            </a:r>
            <a:endParaRPr b="0" lang="en-US" sz="2400" spc="-1" strike="noStrike">
              <a:solidFill>
                <a:srgbClr val="000000"/>
              </a:solidFill>
              <a:latin typeface="Arial"/>
            </a:endParaRPr>
          </a:p>
        </p:txBody>
      </p:sp>
      <p:sp>
        <p:nvSpPr>
          <p:cNvPr id="10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Bierkowo + ZZO Czarnówko): Damnica, Dębnica Kaszubska, Główczyce, Kępice, Kobylnica, Słupsk (M), Słupsk (W), Smołdzino, Ustka (M), Ustka (W), Trzebielino, Lębork, Łeba, Cewice, Nowa Wieś Lęborska, Wicko, Choczewo, Łęczyce, Linia, Krokowa, Gniewino, Potęgowo, Hel, Władysławowo, Jastarnia, Puck (M), Puck (W) – </a:t>
            </a:r>
            <a:r>
              <a:rPr b="1" lang="en-US" sz="1400" spc="-1" strike="noStrike">
                <a:solidFill>
                  <a:srgbClr val="000000"/>
                </a:solidFill>
                <a:latin typeface="Arial"/>
              </a:rPr>
              <a:t>27 gminy, 356647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Eko Dolina): Gdynia, Sopot, Rumia, Reda, Wejherowo (M), Wejherowo (W), Kosakowo, Szemud, Luzino – </a:t>
            </a:r>
            <a:r>
              <a:rPr b="1" lang="en-US" sz="1400" spc="-1" strike="noStrike">
                <a:solidFill>
                  <a:srgbClr val="000000"/>
                </a:solidFill>
                <a:latin typeface="Arial"/>
              </a:rPr>
              <a:t>9 gmin, 460330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ierzno + ZZO Nowy Dwór k/Angowic + ZZO Stary Las): Borzytuchom, Bytów, Kołczygłowy, Lipnica, Parchowo, Studzienice, Tuchomie, Dziemiany, Lipusz, Miastko, Czarna Dąbrówka, Chmielno, Sierakowice, Sulęczyno, Chojnice (M), Chojnice (W), Czarne, Człuchów (M), Człuchów (W), Debrzno, Przechlewo, Konarzyny, Brusy, Koczała, Rzeczenica, Bobowo, Czarna Woda, Lubichowo, Kaliska, Osieczna, Osiek, Skarszewy, Skórcz (M), Skórcz (W), Smętowo Graniczne, Starogard Gdański (M), Starogard Gdański (W), Zblewo, Nowa Karczma, Stara Kiszewa, Karsin, Liniewo, Czersk, Kościerzyna (M), Kościerzyna (W), Stężyca – </a:t>
            </a:r>
            <a:r>
              <a:rPr b="1" lang="en-US" sz="1400" spc="-1" strike="noStrike">
                <a:solidFill>
                  <a:srgbClr val="000000"/>
                </a:solidFill>
                <a:latin typeface="Arial"/>
              </a:rPr>
              <a:t>46 gmin; 455245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zadółki): Gdańsk, Pruszcz Gdański (M), Pruszcz Gdański (W); Żukowo, Kolbudy, Somonino, Kartuzy, Przodkowo, Przywidz – </a:t>
            </a:r>
            <a:r>
              <a:rPr b="1" lang="en-US" sz="1400" spc="-1" strike="noStrike">
                <a:solidFill>
                  <a:srgbClr val="000000"/>
                </a:solidFill>
                <a:latin typeface="Arial"/>
              </a:rPr>
              <a:t>9 gmin, 6028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Rokitki + ZZO Gilwa Mała): Tczew (M), Tczew (W), Subkowy, Cedry Wielkie, Pszczółki, Suchy Dąb, Trąbki Wielkie, Krynica Morska, Sztutowo, Stegna, Nowy Dwór Gdański, Ostaszewo, Miłoradz, Dzierzgoń, Mikołajki Pomorskie, Stary Dzierzgoń, Malbork (M), Malbork (W), Nowy Staw, Lichnowy, Stare Pole, Pelplin, Morzeszczyn, Gniew, Stary Targ, Kwidzyn (M), Kwidzyn (W), Prabuty, Gardeja, Ryjewo, Sadlinki, Sztum – </a:t>
            </a:r>
            <a:r>
              <a:rPr b="1" lang="en-US" sz="1400" spc="-1" strike="noStrike">
                <a:solidFill>
                  <a:srgbClr val="000000"/>
                </a:solidFill>
                <a:latin typeface="Arial"/>
              </a:rPr>
              <a:t>32 gminy, 365079 Mk</a:t>
            </a:r>
            <a:r>
              <a:rPr b="0" lang="en-US" sz="1400" spc="-1" strike="noStrike">
                <a:solidFill>
                  <a:srgbClr val="000000"/>
                </a:solidFill>
                <a:latin typeface="Arial"/>
              </a:rPr>
              <a:t> </a:t>
            </a:r>
            <a:r>
              <a:rPr b="0" lang="en-US" sz="1400" spc="-1" strike="noStrike">
                <a:solidFill>
                  <a:srgbClr val="ff6600"/>
                </a:solidFill>
                <a:latin typeface="Arial"/>
              </a:rPr>
              <a:t>/ewentualnie + Susz (woj. warmińsko-mazurskie – 12814 Mk) = 377893 Mk/;</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50560" y="1125360"/>
            <a:ext cx="8569080" cy="51134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1" name="PlaceHolder 2"/>
          <p:cNvSpPr>
            <a:spLocks noGrp="1"/>
          </p:cNvSpPr>
          <p:nvPr>
            <p:ph type="title"/>
          </p:nvPr>
        </p:nvSpPr>
        <p:spPr>
          <a:xfrm>
            <a:off x="3059280" y="274320"/>
            <a:ext cx="5627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iant IVa</a:t>
            </a:r>
            <a:endParaRPr b="0" lang="en-US" sz="2400" spc="-1" strike="noStrike">
              <a:solidFill>
                <a:srgbClr val="000000"/>
              </a:solidFill>
              <a:latin typeface="Arial"/>
            </a:endParaRPr>
          </a:p>
        </p:txBody>
      </p:sp>
      <p:pic>
        <p:nvPicPr>
          <p:cNvPr id="112" name="" descr=""/>
          <p:cNvPicPr/>
          <p:nvPr/>
        </p:nvPicPr>
        <p:blipFill>
          <a:blip r:embed="rId2"/>
          <a:stretch/>
        </p:blipFill>
        <p:spPr>
          <a:xfrm>
            <a:off x="1042920" y="1052640"/>
            <a:ext cx="6891480" cy="5457600"/>
          </a:xfrm>
          <a:prstGeom prst="rect">
            <a:avLst/>
          </a:prstGeom>
          <a:ln w="0">
            <a:noFill/>
          </a:ln>
        </p:spPr>
      </p:pic>
    </p:spTree>
  </p:cSld>
  <p:transition>
    <p:comb dir="horz"/>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4" dur="1000"/>
                                        <p:tgtEl>
                                          <p:spTgt spid="110">
                                            <p:txEl>
                                              <p:pRg st="0" end="0"/>
                                            </p:txEl>
                                          </p:spTgt>
                                        </p:tgtEl>
                                      </p:cBhvr>
                                    </p:animEffect>
                                    <p:anim calcmode="lin" valueType="num">
                                      <p:cBhvr additive="repl">
                                        <p:cTn id="105"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43280" y="274320"/>
            <a:ext cx="404352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Wariant IVa</a:t>
            </a:r>
            <a:endParaRPr b="0" lang="en-US" sz="2400" spc="-1" strike="noStrike">
              <a:solidFill>
                <a:srgbClr val="000000"/>
              </a:solidFill>
              <a:latin typeface="Arial"/>
            </a:endParaRPr>
          </a:p>
        </p:txBody>
      </p:sp>
      <p:sp>
        <p:nvSpPr>
          <p:cNvPr id="11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Bierkowo + ZZO Czarnówko): Damnica, Dębnica Kaszubska, Główczyce, Kępice, Kobylnica, Słupsk (M), Słupsk (W), Smołdzino, Ustka (M), Ustka (W), Trzebielino, Lębork, Łeba, Cewice, Nowa Wieś Lęborska, Wicko, Choczewo, Łęczyce, Linia, Krokowa, Gniewino, Potęgowo, Czarna Dąbrówka, Chmielno, Sierakowice, Sulęczyno, Hel, Władysławowo, Jastarnia, Puck (M), Puck (W) – </a:t>
            </a:r>
            <a:r>
              <a:rPr b="1" lang="en-US" sz="1400" spc="-1" strike="noStrike">
                <a:solidFill>
                  <a:srgbClr val="000000"/>
                </a:solidFill>
                <a:latin typeface="Arial"/>
              </a:rPr>
              <a:t>31 gmin, 391806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Eko Dolina): Gdynia, Sopot, Rumia, Reda, Wejherowo (M), Wejherowo (W), Kosakowo, Szemud, Luzino – </a:t>
            </a:r>
            <a:r>
              <a:rPr b="1" lang="en-US" sz="1400" spc="-1" strike="noStrike">
                <a:solidFill>
                  <a:srgbClr val="000000"/>
                </a:solidFill>
                <a:latin typeface="Arial"/>
              </a:rPr>
              <a:t>9 gmin, 460330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ierzno + ZZO Nowy Dwór k/Angowic + ZZO Stary Las): Borzytuchom, Bytów, Kołczygłowy, Lipnica, Parchowo, Studzienice, Tuchomie, Dziemiany, Lipusz, Miastko, Chojnice (M), Chojnice (W), Czarne, Człuchów (M), Człuchów (W), Debrzno, Przechlewo, Konarzyny, Brusy, Koczała, Rzeczenica, Bobowo, Czarna Woda, Lubichowo, Kaliska, Osieczna, Osiek, Skarszewy, Skórcz (M), Skórcz (W), Smętowo Graniczne, Starogard Gdański (M), Starogard Gdański (W), Zblewo, Nowa Karczma, Stara Kiszewa, Karsin, Liniewo, Czersk, Kościerzyna (M), Kościerzyna (W), Stężyca – </a:t>
            </a:r>
            <a:r>
              <a:rPr b="1" lang="en-US" sz="1400" spc="-1" strike="noStrike">
                <a:solidFill>
                  <a:srgbClr val="000000"/>
                </a:solidFill>
                <a:latin typeface="Arial"/>
              </a:rPr>
              <a:t>42 gminy; 420086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Szadółki): Gdańsk, Pruszcz Gdański (M), Pruszcz Gdański (W); Żukowo, Kolbudy, Somonino, Kartuzy, Przodkowo, Przywidz – </a:t>
            </a:r>
            <a:r>
              <a:rPr b="1" lang="en-US" sz="1400" spc="-1" strike="noStrike">
                <a:solidFill>
                  <a:srgbClr val="000000"/>
                </a:solidFill>
                <a:latin typeface="Arial"/>
              </a:rPr>
              <a:t>9 gmin, 602821 Mk</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O Rokitki + ZZO Gilwa Mała): Tczew (M), Tczew (W), Subkowy, Cedry Wielkie, Pszczółki, Suchy Dąb, Trąbki Wielkie, Krynica Morska, Sztutowo, Stegna, Nowy Dwór Gdański, Ostaszewo, Miłoradz, Dzierzgoń, Mikołajki Pomorskie, Stary Dzierzgoń, Malbork (M), Malbork (W), Nowy Staw, Lichnowy, Stare Pole, Pelplin, Morzeszczyn, Gniew, Stary Targ, Kwidzyn (M), Kwidzyn (W), Prabuty, Gardeja, Ryjewo, Sadlinki, Sztum – </a:t>
            </a:r>
            <a:r>
              <a:rPr b="1" lang="en-US" sz="1400" spc="-1" strike="noStrike">
                <a:solidFill>
                  <a:srgbClr val="000000"/>
                </a:solidFill>
                <a:latin typeface="Arial"/>
              </a:rPr>
              <a:t>32 gminy, 365079 Mk</a:t>
            </a:r>
            <a:r>
              <a:rPr b="0" lang="en-US" sz="1400" spc="-1" strike="noStrike">
                <a:solidFill>
                  <a:srgbClr val="000000"/>
                </a:solidFill>
                <a:latin typeface="Arial"/>
              </a:rPr>
              <a:t> </a:t>
            </a:r>
            <a:r>
              <a:rPr b="0" lang="en-US" sz="1400" spc="-1" strike="noStrike">
                <a:solidFill>
                  <a:srgbClr val="ff6600"/>
                </a:solidFill>
                <a:latin typeface="Arial"/>
              </a:rPr>
              <a:t>/ewentualnie + Susz (woj. warmińsko-mazurskie – 12814 Mk) = 377893 Mk/;</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7280" y="274320"/>
            <a:ext cx="461952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pozycje podziału na regiony do PGOWP 2016</a:t>
            </a:r>
            <a:endParaRPr b="0" lang="en-US" sz="2400" spc="-1" strike="noStrike">
              <a:solidFill>
                <a:srgbClr val="000000"/>
              </a:solidFill>
              <a:latin typeface="Arial"/>
            </a:endParaRPr>
          </a:p>
        </p:txBody>
      </p:sp>
      <p:sp>
        <p:nvSpPr>
          <p:cNvPr id="11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 terminie do 20 października 2011 r. oczekujemy deklaracji gminy w zakresie przynależności do określonego </a:t>
            </a:r>
            <a:r>
              <a:rPr b="0" lang="en-US" sz="2400" spc="-1" strike="noStrike" u="sng">
                <a:solidFill>
                  <a:srgbClr val="000000"/>
                </a:solidFill>
                <a:uFillTx/>
                <a:latin typeface="Arial"/>
              </a:rPr>
              <a:t>„obszaru obsługi ZZO”</a:t>
            </a:r>
            <a:r>
              <a:rPr b="0" lang="en-US" sz="2400" spc="-1" strike="noStrike">
                <a:solidFill>
                  <a:srgbClr val="000000"/>
                </a:solidFill>
                <a:latin typeface="Arial"/>
              </a:rPr>
              <a:t>, a tym samym </a:t>
            </a:r>
            <a:r>
              <a:rPr b="1" lang="en-US" sz="2400" spc="-1" strike="noStrike" u="sng">
                <a:solidFill>
                  <a:srgbClr val="000000"/>
                </a:solidFill>
                <a:uFillTx/>
                <a:latin typeface="Arial"/>
              </a:rPr>
              <a:t>regionu gospodarki odpadami komunalnymi</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Deklaracje należy kierować na adres Departamentu: Urząd Marszałkowski Województwa Pomorskiego, Departament Środowiska i Rolnictwa, ul. Okopowa 21/27, 80-810 Gdańsk, e-mail: </a:t>
            </a:r>
            <a:r>
              <a:rPr b="0" lang="en-US" sz="2400" spc="-1" strike="noStrike" u="sng">
                <a:solidFill>
                  <a:srgbClr val="009999"/>
                </a:solidFill>
                <a:uFillTx/>
                <a:latin typeface="Arial"/>
                <a:hlinkClick r:id="rId2"/>
              </a:rPr>
              <a:t>dros@pomorskie.eu</a:t>
            </a:r>
            <a:r>
              <a:rPr b="0" lang="en-US" sz="2400" spc="-1" strike="noStrike" u="sng">
                <a:solidFill>
                  <a:srgbClr val="333399"/>
                </a:solidFill>
                <a:uFillTx/>
                <a:latin typeface="Arial"/>
              </a:rPr>
              <a:t>,</a:t>
            </a:r>
            <a:r>
              <a:rPr b="0" lang="en-US" sz="2400" spc="-1" strike="noStrike">
                <a:solidFill>
                  <a:srgbClr val="ff0000"/>
                </a:solidFill>
                <a:latin typeface="Arial"/>
              </a:rPr>
              <a:t> faks: (58) 32 68 663.</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W razie pytań i wątpliwości prosimy o kontaktowanie się pracownikami Referatu Polityki Ekologicznej, tel.: (58) 32 68 674 lub 331, faks: (58) 32 68 772, e-mail: </a:t>
            </a:r>
            <a:r>
              <a:rPr b="0" lang="en-US" sz="2400" spc="-1" strike="noStrike" u="sng">
                <a:solidFill>
                  <a:srgbClr val="009999"/>
                </a:solidFill>
                <a:uFillTx/>
                <a:latin typeface="Arial"/>
                <a:ea typeface="Arial"/>
                <a:hlinkClick r:id="rId3"/>
              </a:rPr>
              <a:t>t.styn@pomorskie.eu</a:t>
            </a:r>
            <a:r>
              <a:rPr b="0" lang="en-US" sz="2400" spc="-1" strike="noStrike" u="sng">
                <a:solidFill>
                  <a:srgbClr val="000000"/>
                </a:solidFill>
                <a:uFillTx/>
                <a:latin typeface="Arial"/>
                <a:ea typeface="Arial"/>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95280" y="549360"/>
            <a:ext cx="8497800" cy="352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rPr>
              <a:t>Dziękuję za uwagę</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48" name=""/>
          <p:cNvGraphicFramePr/>
          <p:nvPr/>
        </p:nvGraphicFramePr>
        <p:xfrm>
          <a:off x="457200" y="1600200"/>
          <a:ext cx="8229240" cy="4525560"/>
        </p:xfrm>
        <a:graphic>
          <a:graphicData uri="http://schemas.openxmlformats.org/drawingml/2006/table">
            <a:tbl>
              <a:tblPr/>
              <a:tblGrid>
                <a:gridCol w="1236240"/>
                <a:gridCol w="530640"/>
                <a:gridCol w="2131560"/>
                <a:gridCol w="2664720"/>
                <a:gridCol w="1666080"/>
              </a:tblGrid>
              <a:tr h="537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ZZ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32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ierko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mnic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76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ębnica Kaszub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9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łówczy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19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4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ępi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3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41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bylnic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3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8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łupsk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6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łupsk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1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2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ołdzin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0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9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tka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06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tka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7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78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zebielin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59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344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69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50" name=""/>
          <p:cNvGraphicFramePr/>
          <p:nvPr/>
        </p:nvGraphicFramePr>
        <p:xfrm>
          <a:off x="457200" y="1600200"/>
          <a:ext cx="8229240" cy="4525560"/>
        </p:xfrm>
        <a:graphic>
          <a:graphicData uri="http://schemas.openxmlformats.org/drawingml/2006/table">
            <a:tbl>
              <a:tblPr/>
              <a:tblGrid>
                <a:gridCol w="1360080"/>
                <a:gridCol w="512280"/>
                <a:gridCol w="2180880"/>
                <a:gridCol w="2569680"/>
                <a:gridCol w="1606320"/>
              </a:tblGrid>
              <a:tr h="537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ZZ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32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zarnówk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ębo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58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Łe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8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5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wi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76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06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wa Wieś Lębor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89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ck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79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ocze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3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5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Łęczy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2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6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98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9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rokow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1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4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niewin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6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0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tęgo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8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1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576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19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52" name=""/>
          <p:cNvGraphicFramePr/>
          <p:nvPr/>
        </p:nvGraphicFramePr>
        <p:xfrm>
          <a:off x="457200" y="1600200"/>
          <a:ext cx="8229240" cy="4525560"/>
        </p:xfrm>
        <a:graphic>
          <a:graphicData uri="http://schemas.openxmlformats.org/drawingml/2006/table">
            <a:tbl>
              <a:tblPr/>
              <a:tblGrid>
                <a:gridCol w="1355760"/>
                <a:gridCol w="524160"/>
                <a:gridCol w="2075400"/>
                <a:gridCol w="2630160"/>
                <a:gridCol w="1643760"/>
              </a:tblGrid>
              <a:tr h="440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ZZ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72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ko Doli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dy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5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73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po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1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m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1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9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95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jherowo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5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77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jherowo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4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65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sako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7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zem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6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7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ładysławo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1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starn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ck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2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ck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7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8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uzin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2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866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183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54" name=""/>
          <p:cNvGraphicFramePr/>
          <p:nvPr/>
        </p:nvGraphicFramePr>
        <p:xfrm>
          <a:off x="457200" y="1600200"/>
          <a:ext cx="8229240" cy="4525920"/>
        </p:xfrm>
        <a:graphic>
          <a:graphicData uri="http://schemas.openxmlformats.org/drawingml/2006/table">
            <a:tbl>
              <a:tblPr/>
              <a:tblGrid>
                <a:gridCol w="1079640"/>
                <a:gridCol w="544680"/>
                <a:gridCol w="2158920"/>
                <a:gridCol w="2736000"/>
                <a:gridCol w="1710000"/>
              </a:tblGrid>
              <a:tr h="339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ZZ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erzn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orzytucho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8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ytó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69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1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łczygłow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0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7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pnic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88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cho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1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0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udzieni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6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uchomi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0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ziemia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5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pusz</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8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astk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6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56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zarna Dąbrówka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80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6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mieln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86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9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erakowic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2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58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lęczyn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1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narzy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4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us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0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5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97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55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56" name=""/>
          <p:cNvGraphicFramePr/>
          <p:nvPr/>
        </p:nvGraphicFramePr>
        <p:xfrm>
          <a:off x="457200" y="1341360"/>
          <a:ext cx="8229240" cy="4784400"/>
        </p:xfrm>
        <a:graphic>
          <a:graphicData uri="http://schemas.openxmlformats.org/drawingml/2006/table">
            <a:tbl>
              <a:tblPr/>
              <a:tblGrid>
                <a:gridCol w="1176480"/>
                <a:gridCol w="428400"/>
                <a:gridCol w="2165040"/>
                <a:gridCol w="2744280"/>
                <a:gridCol w="1715040"/>
              </a:tblGrid>
              <a:tr h="875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ZZ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zadółk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dańs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19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696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91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uszcz Gd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8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uszcz Gd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3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4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Żuko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40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6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lbud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6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0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monin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2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7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artuz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6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18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zodkowo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6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zywidz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9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3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020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28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03280" y="274320"/>
            <a:ext cx="548316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dział na „regiony” – obszary obsługi ZZO wg PGOWP 2010</a:t>
            </a:r>
            <a:endParaRPr b="0" lang="en-US" sz="2400" spc="-1" strike="noStrike">
              <a:solidFill>
                <a:srgbClr val="000000"/>
              </a:solidFill>
              <a:latin typeface="Arial"/>
            </a:endParaRPr>
          </a:p>
        </p:txBody>
      </p:sp>
      <p:graphicFrame>
        <p:nvGraphicFramePr>
          <p:cNvPr id="58" name=""/>
          <p:cNvGraphicFramePr/>
          <p:nvPr/>
        </p:nvGraphicFramePr>
        <p:xfrm>
          <a:off x="468360" y="1052640"/>
          <a:ext cx="8229600" cy="5805360"/>
        </p:xfrm>
        <a:graphic>
          <a:graphicData uri="http://schemas.openxmlformats.org/drawingml/2006/table">
            <a:tbl>
              <a:tblPr/>
              <a:tblGrid>
                <a:gridCol w="1017720"/>
                <a:gridCol w="542880"/>
                <a:gridCol w="2235240"/>
                <a:gridCol w="2728800"/>
                <a:gridCol w="1704960"/>
              </a:tblGrid>
              <a:tr h="388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ZZ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ługiwane gmi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wierzchnia terenu [h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czba ludnośc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okitk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czew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1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czew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0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26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bkow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7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38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dry Wielki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4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szczółk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chy Dą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ąbki Wielki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2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6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rynica Mors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60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6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ztuto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5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8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eg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0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wy Dwór Gdańsk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3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8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taszew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łoradz</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3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lbork (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27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lbork (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6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wy Sta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7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chnow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8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re Po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9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7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lpl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6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rzeszczy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niew</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4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49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84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414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8T07:52:50Z</dcterms:created>
  <dc:creator>Stawiński Arkadiusz</dc:creator>
  <dc:description/>
  <dc:language>en-US</dc:language>
  <cp:lastModifiedBy>kawisniewska</cp:lastModifiedBy>
  <dcterms:modified xsi:type="dcterms:W3CDTF">2011-08-29T06:16:42Z</dcterms:modified>
  <cp:revision>22</cp:revision>
  <dc:subject/>
  <dc:title>72 dpi</dc:title>
</cp:coreProperties>
</file>